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D92F-7ECF-4641-AFC4-CC13C7CF9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B0E2-36F5-45D3-9430-251DD494DB6E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322-0E0E-49AC-AABF-AFE1890A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994-A2DA-4531-A35C-F0FF39EF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0BDE-1C11-4693-8D57-AB856C48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154-1DDE-4A36-BE65-03609DFC7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5B11-1124-409A-9152-B8A44DA2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441C-471C-4CB1-9012-4CA4DF37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310D-1868-4D60-BCD5-7961E5C9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7190-4A7F-4250-AFCC-513B8606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A736-9282-4563-A81A-367AEB37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4AF6-351C-48B0-9402-E651BE72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82A0-3209-4097-9B65-A0F98CDF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8F8-78DF-480E-BE6D-467499B2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BAC1-D3B1-4B25-B542-BEFB25D8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8BD7-787F-4B00-A1FA-475294CF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BB2E-E0CB-4F96-8604-0F874C64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BF6B-D435-476F-8B93-46E3EB63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AC61-8605-42AC-9371-A5E46DC9A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A2F21E-F693-41D2-B1FE-68D2D34D02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98FA62-28EF-4CE3-8EF8-9AEC574975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DE1A8A-F0B2-49E7-8E18-19651780F6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8EEEE-E39C-4527-A1E7-930A4D4A135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229821-EF64-4BAA-B67C-8F91209E0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1C62-A415-4C58-8B96-40F4A3B8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FCD28A-10A4-477F-80D8-64ABA5C689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E80EB-BEB9-4414-8032-C8E33AB55D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8AB4C-B769-4E60-A8CD-DEA5B02D7BB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D8A0A8-E295-4251-A170-3B10A78FF4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5232E-3D4A-4619-85E2-396690BDE5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878984-E40A-4A59-AD62-19A12D92FB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A8066B-B3CA-4A7C-94EE-0A142423D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08E9-BB64-44DD-93A8-DA4E471A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FFA4-9D82-45EB-9ACC-B4D039F2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1A85-8720-4A0F-93E6-09BFF184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608-5A6C-41A7-8DE7-473E7615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26B-D02D-4E78-AD5C-F143AB38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739-5BAF-4F43-A855-8CB4478C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1A12-6B9D-4349-9819-0FE41A4B5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9CCD-011A-48E0-A359-88FD6DCC4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8251-7CC7-45B9-8D84-95D3C4369951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КЛИНИЧКА 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ФИЗИКАЛН</a:t>
            </a: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А</a:t>
            </a:r>
            <a:r>
              <a:rPr b="1" lang="sr-BA" sz="3200" spc="-1" strike="noStrike">
                <a:solidFill>
                  <a:srgbClr val="660066"/>
                </a:solidFill>
                <a:latin typeface="Tahoma"/>
              </a:rPr>
              <a:t> ТЕРАПИЈА НА ОСНОВУ КЛИНИЧКЕ ЕВАЛУАЦИЈЕ ФУНКЦИЈА ЛОКОМОТОРНОГ АПАРАТА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зив физикална терапија потиче од грчке реч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“fysis” 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то у преводу значи “природна”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анас се природни фактори ређе примењују, а углавном се користе вештачки извори физичких агенаса (вештачки добијена физичка енергиј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лна терапија се сматра методом лечења примарно заснованој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 дејству дражи и реакцији организма на ту драж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4B2D-4CFE-43F8-8832-374573AAC25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ЦИЉЕВИ ФИЗИКАЛНЕ 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ФТ представља пре  свега  </a:t>
            </a:r>
            <a:r>
              <a:rPr b="0" lang="sr-CS" sz="2400" spc="-1" strike="noStrike" u="sng">
                <a:solidFill>
                  <a:srgbClr val="40458c"/>
                </a:solidFill>
                <a:uFillTx/>
                <a:latin typeface="Tahoma"/>
              </a:rPr>
              <a:t>симптоматску  терапију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на  је  усмерена  на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sr-CS" sz="2400" spc="-1" strike="noStrike" u="sng">
                <a:solidFill>
                  <a:srgbClr val="ff3300"/>
                </a:solidFill>
                <a:uFillTx/>
                <a:latin typeface="Tahoma"/>
              </a:rPr>
              <a:t>ублажавање постојећих симптома</a:t>
            </a:r>
            <a:r>
              <a:rPr b="0" lang="sr-C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 њени главни циљеви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3300"/>
                </a:solidFill>
                <a:uFillTx/>
                <a:latin typeface="Tahoma"/>
              </a:rPr>
              <a:t>побољшање фун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0A05-E7AC-4C96-AC2A-7938F52B56C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Right Arrow 4"/>
          <p:cNvSpPr/>
          <p:nvPr/>
        </p:nvSpPr>
        <p:spPr>
          <a:xfrm>
            <a:off x="228600" y="312408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Right Arrow 5"/>
          <p:cNvSpPr/>
          <p:nvPr/>
        </p:nvSpPr>
        <p:spPr>
          <a:xfrm>
            <a:off x="304920" y="41911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ЗАДАЦИ ФИЗИКАЛНЕ 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или отклањање бол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локалне циркулациј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едема кроз ресорпцију и спречавање екстравазат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тиинфламаторно деловање код акутних запаљењ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окално повећање метаболизм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трофике, процеса репарације и регенерације ткив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еластичности меких ткив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CCA1-4A1E-487E-95D5-134981BB53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ЗАДАЦИ ФИЗИКАЛНЕ 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спостављање функције одузетих нерав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речавање стварања густог везивног ткива и ожиљк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речавање и отклањање скраћења мишића и контрактур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торна  реедукација  појединих  делова  локомоторног  апарата   посл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узетости или дужег инактивитет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координације покрет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спостављање аутоматизације и стереотипа пок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D60D-C014-4F67-9B20-0453B3D6AF5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Tahoma"/>
              </a:rPr>
              <a:t>ФИЗИКАЛНА ТЕРАПИЈА</a:t>
            </a:r>
            <a:r>
              <a:rPr b="0" lang="en-US" sz="4400" spc="-1" strike="noStrike">
                <a:solidFill>
                  <a:srgbClr val="00b05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дставља интегрални део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МЕДИЦИНСКЕ РЕХАБИЛИТА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без које се не може замислити функционално оспособљавање физички онеспособљених особа за активности дневног животта (АДЖ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бољи резултати се постижу комбинованом применом процедура разних области физикална терап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D8C8-97C9-4A19-8EF1-240748DAD8A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рема врсти физичког агенса који се користи, физикална терапија се дели на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77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инезитерапија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ави се применом терапеутских вежби (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кинетичка енергија)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ла контракцијом скелетних мишића) ради очувања, успостављања, развијања и замене фунције локомоторног апара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Електротерапија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ави се применом разних врста  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електричне енергије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вид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алванске, нискофреквентне и високовреквентне струје у сврху леч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топлотна енергиј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оквир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цедур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пле и хладне диферентне зо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C480-7F06-4C66-B26F-E3FA77161EB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рема врсти физичког агенса који се користи, физикална терапија се дели на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ото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користи вештачки добијену светлост у виду УВ (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хемијска енергија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инфрацрвене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топлотна енергиј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оно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разумева терапијску примену УЗ таласа високе фреквенције (840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kH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до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3MHz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, при чему делује на кожу и окожно ткиво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звучна енерг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механичка, топлот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идро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–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одразумева спољну примену воде (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топлотна и механичка енергија)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свим агрегатним стањима у циљу лече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елио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светлосна енерг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CBA7-78AF-44DD-8CBC-03D63DEDAC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рема врсти физичког агенса који се користи, физикална терапија се дели на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агнетотерапиј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мена пулзирајућих магнетних и електромагнетних поља високе и ниске фреквенције (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електромагнетна енерг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купунктур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механичка енерг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ануелн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асажа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механичка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енерг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ипербаричне и хипобаричне процедур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подразумевају деловање високог и ниског притиска (подпритиска) ваздуха на кожу и поткожно ткиво (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механичка енерг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19D6-6EDE-435F-AD58-612C4C37D2B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чин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еловањ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е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и агенси делују на кожу, а преко коже на друга ткива и орга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генси своје деловање остварују деловањем дражи на рецепторе у кожи, поткожном и мишићно-тетивном ткив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 механорецептор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делују механичке дражи у оквир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е (хидрокинетичке процедуре)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саж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уелне терапије и сонотерапиј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о и хипербаричне процедур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3A22-DD15-4699-A406-D2715F38F5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чин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еловањ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е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 терморецептор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реагују на топло и хладно) делују термичке дражи у оквир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ототерапије (ИР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терапије (КТД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онотерап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7A23-72B7-4D23-A610-988F7FF5C4C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ЛИНИЧКА ФИЗИКАЛНА ТЕРАПИЈА 1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дмет носи 8  ЕСПБ бод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  часа предавања и 2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аса вежб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Образовни циљ предме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40458c"/>
                </a:solidFill>
                <a:latin typeface="Tahoma"/>
              </a:rPr>
              <a:t>Упознавање са теоретским и практичним аспектима клиничке физикалне терапије и са начинима решавања најчешћих клиничких  проблема и потреба пацијената из области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ahoma"/>
              </a:rPr>
              <a:t>неуролошких обољења и повреда, као 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ahoma"/>
              </a:rPr>
              <a:t>повреда локомоторног апарата (костију и меких ткива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153E-8C0E-45E1-A177-5500C3ECE5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чин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еловањ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е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 ноцицептор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реагују на хемијске супсанце ослобођене под дејтвом интензивних механичких, термичких, хемијских или електричних дражи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На неуромишићна вретена у скелетомоторним мишићим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раегују на истезање екстрафузалних или конракцију интрафузалних мишићних влакана),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тетивна телашца – Голџ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(реагују на повећање тензије у мишићима при контракцији)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и слободне нервне завршетке у зглобној капсули и лигаментима тзв проприоцепторе,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делују терапеутске вежбе, одн кинестетичке дражи у оквиру Кх, хидротх, тх рад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01D8-D025-4975-85C8-A4E6DDC99F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чин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деловања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е</a:t>
            </a:r>
            <a:r>
              <a:rPr b="1" lang="sr-Latn-C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ерап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37720" y="1904760"/>
            <a:ext cx="5334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ловањем дражи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на бројне рецептор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механорецепторе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терморецепторе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ноцицепто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неуромишићна вретена у скелетомоторним мишић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тетивна телашца –Голџи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слободне нервне завршетке у зглобној капсули и лигамент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9E2B-605F-4D28-A256-59504A1B7E5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Екстероцептор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Екстероцептори-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задужени за пријем дражи(стимулуса) из спољашње средин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о су специјализоване структуре које се налазе у кожи као и у специјализованим чулним органима главеног регио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тектују електромагнетну, хемијску и механичку енергију из спољашње средине (укус хране, светлост, мирис, додир, звук, промене температуре површине тел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ханорецепт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рецепт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оцицепт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6106-BE48-4E84-9B69-455C94C26B6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роприоцептор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приоцептори су рецептори смештени у зглобовима, мишићима, тетивама, лигамен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сетљиви су на промене притиска и напет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обраде информација у ЦНС-у постајемо свесни свог положаја у простор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8926-60EE-4711-A708-0A9F61468A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КИНЕСТЕЗ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ин који се често спомиње као синоним проприоцепције је кинестези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ако је дефиниција кинестезије скоро идентична дефиницији проприоцепције код кинестезије се нагласак ставља на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кре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D8FB-60B0-4241-BB11-E19B992DF1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Биолошка реак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 биолошке реакције долази под дејством различитих физикалних агенаса углавном је неспецифичног карактера и манифестује се локалним променама у кожи и другим ткивима и општим реакцијама организ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9AD1-2614-4FF7-949D-F305C6110CC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Биолошка реак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Локална</a:t>
            </a: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400" spc="-1" strike="noStrike" u="sng">
                <a:solidFill>
                  <a:srgbClr val="40458c"/>
                </a:solidFill>
                <a:uFillTx/>
                <a:latin typeface="Tahoma"/>
              </a:rPr>
              <a:t>реакција кож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рефлексна вазомоторна реакција у виду вазодилатације, типа активне хиперемиј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интра и екстрацелуларне промене концентрације јон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омене поларитета мембране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биоелектричне ефекте промене мембранског потенциј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оцеси биосинтезе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62F0-5442-4AC5-BBFB-CB01B3C465D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Биолошка реак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Локална</a:t>
            </a: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CS" sz="2400" spc="-1" strike="noStrike" u="sng">
                <a:solidFill>
                  <a:srgbClr val="40458c"/>
                </a:solidFill>
                <a:uFillTx/>
                <a:latin typeface="Tahoma"/>
              </a:rPr>
              <a:t>реакција сегмента локомоторног апарата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оже да се у виду консензуалне реакције хуморалним и рефлексим путем проширити на већа подручја коже, друга ткива и орга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и процедурама ктх, хидроктх и масаже долази д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локалних промена у мишићима, тетивама, периосту, лигаментима и зглобним чаурама, у смислу боље прокрвљености и трофик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уз побољшање тонуса мишић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овећане еластичности меких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98CC-5C5E-421B-A5ED-262BB791925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Биолошка реак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Деловање на унутрашње орга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ко кутановисцералних рефлекса физичким агенсима се може деловати и на унутрашње орган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срц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плу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гастроинтестинални тракт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уринарни систем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36120" indent="-21924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гениталне органе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E803-7C44-42BF-8832-8AEA7FCAEB1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Биолошка реак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Биолошка  реакција  до  које  долази  под  дејством  различитих  физичких агенаса, углавном је </a:t>
            </a: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неспецифичног карактер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и  манифестује  се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6800" indent="-331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локалним променама у кожи и другим ткивим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26800" indent="-3312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ahoma"/>
              </a:rPr>
              <a:t>општим реакцијама организма.</a:t>
            </a:r>
            <a:r>
              <a:rPr b="0" lang="sr-C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0458c"/>
                </a:solidFill>
                <a:latin typeface="Tahoma"/>
              </a:rPr>
              <a:t>Реакција зависи од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4040" indent="-46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5240" indent="-397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врсте примењене енерг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5240" indent="-397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трајања и интензитета деловања физичког агенс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5240" indent="-397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места деловања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95240" indent="-3974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реактивних способности организ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64040" indent="-4640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575F-A37A-4D81-B866-C0CD4DC49A8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ЛИНИЧКА ФИЗИКАЛНА ТЕРАПИЈА 1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грам обухвата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сновна знања о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требна за планирање и спровођење клини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ч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е фи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з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калне терапије болесника са 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неуролошким обољењима и повредам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ериферних нерава, централног нервног система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CA08-E88D-4864-9F9D-D6E65951EAB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ТРАЈАЊЕ ТРЕТМА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838080" y="15998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нављање једне дражи која се користи у ФТ, доводи до 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привикавања  на ту дра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а то се  дешава  приликом  дуготрајних  серија  физиотрапијских процедур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викавање ткива на драж, изражава се смањењем фреквенције импулса који  настају  при  деловању  дражи  истог  интензитета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јава привикавања на драж  јавља  се  на  свим  врстама  рецептора,  осим  на ноцицепторима (рецептори за бол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бог тога,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рој  процедура  ФТ  треба  у једној серији ограничити на 10-15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а између појединих серија потребне  су паузе од 1-2 недељ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DA55-8E6A-4940-9B35-BDE89B2CA88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ahoma"/>
              </a:rPr>
              <a:t>Основни принципи у прописивању физикалних агенаса</a:t>
            </a:r>
            <a:r>
              <a:rPr b="1" lang="sr-Latn-CS" sz="28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96960" indent="-6969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ограм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реб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састављати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индивидуално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након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детаљног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еглед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болесник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ограм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н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реб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д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садржи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виш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3-4 </a:t>
            </a: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процедур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!;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након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одређеног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времена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треба</a:t>
            </a:r>
            <a:r>
              <a:rPr b="1" lang="sr-Latn-CS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r>
              <a:rPr b="1" lang="sr-RS" sz="2400" spc="-1" strike="noStrike" u="sng">
                <a:solidFill>
                  <a:srgbClr val="40458c"/>
                </a:solidFill>
                <a:uFillTx/>
                <a:latin typeface="Tahoma"/>
              </a:rPr>
              <a:t>мењати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св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оцедур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осим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кинези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хидрокинезитерапије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A06C-A4BE-47A4-8769-EF21D611EB3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ФИЗИОТЕРАПЕУТСКИ ПРЕГЛЕД ПАЦИЈЕНТА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мнеза (неуролошки, трауматолошки, реуматолошки болесници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нкционални статус од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ФИЗИОТЕРАПЕУТСКА ФУНКЦИОНАЛНА ПРОЦ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CC2A-6BC8-48CA-B8B2-0B9C7845DB6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глед зглобова и кичм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глед коже 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глед мишић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обима покрета зглобова и кичм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тала кинезиолошка мерењ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спитивање мишићне снаге (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изу ход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стирање активности дневног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5DB9-59D2-4F88-B95E-AD6B6D7832E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РЕГЛЕД ЗГЛОБОВ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глед увек почиње инспекцијом, а наставља се палпацијом и испитивањем покретљивости, односно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E071-7A9E-4CA9-8E3C-1D90F2E830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АЖНИ ФИЗИКАЛНИ ЗНАЦИ ЗАПАЉЕЊ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ртритис означава постојање запаљења у самоме зглоб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ило која зглобна структура може бити захваћена упал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раз артритис употребљава се само за афекцију хрскавице или суопхондралне кости или обоје са синовитисом или без њег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Бол инфламаторног карактера- бол у мир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4BF0-B2FC-4B02-A7A9-3E8B399B56D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АЖНИ ФИЗИКАЛНИ ЗНАЦИ ЗАПАЉЕЊ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85440" y="167652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и су знакови синовитиса зглоб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на осетљив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ност покрета и фун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BACEF-A235-40D7-B924-67D3D26B2A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Оток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62120" y="1676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ок зглоба настаје због интраартикуларног излива, задебљања синовијалне овојнице, упале периартикуларног везивног ткива (бурзе, тетиве,тетивне овојнице), коштаних изданака или изванзглобних масних јастуч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инспекцијом и палпациј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FF8A-388E-4B38-BE89-3F9A9800AEE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Болна осетљивос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Палпацијо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е одређу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присутност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локализација болне осетљив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F86A-16E9-4903-B231-A303A325F75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60066"/>
                </a:solidFill>
                <a:latin typeface="Tahoma"/>
              </a:rPr>
              <a:t>Студент треба да савлада следеће вештине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сновне технике 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клиничког прегледа неуролошких и трауматолошких болесник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Основне 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физиотерапеутске 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 техни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Препознавање и </a:t>
            </a: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дијагностика најчешћих неуролошких и трауматолошких клиничких ентитета</a:t>
            </a:r>
            <a:r>
              <a:rPr b="0" lang="sr-C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Избор физикалних агенаса и њихова апликација у зависности од врсте обољења периферног и централног нервног систе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40458c"/>
                </a:solidFill>
                <a:latin typeface="Tahoma"/>
              </a:rPr>
              <a:t>Контраиндикације за примену физикалних агена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68B2-4E78-4A09-BFDA-F69014681A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бим покре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ност покрета прати већину болести зглобо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8D76-92AE-4405-9FB7-AFD5B230A28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Обим покре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6212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ње покрета може се односити на активни и пасивни покре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бог тога се мери обим активног и пасивног покр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6D5D-351F-412B-8539-107D885ED9F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Остали важни физикални знаков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друге важне физикалне знакове спадај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реп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мене боје коже изнад захваће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ишена температура коже подручја зглоба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ормите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E10A-A241-425C-80B1-49EB29BCAFF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РЕГЛЕД КОЖЕ И ПОТКОЖНОГ ТКИВ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772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им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инспекциј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кожу треба прегледати користећи с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алпацијом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3379-FA5E-4A0A-94C1-2DFB3A2E8B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РЕГЛЕД МИШИЋ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нспекцијом се уочавају трофичке промене, фасцикулације и фибрилације, а прегледом тонус, мобилност, контрактилност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5E5B-D8F6-4DB1-8DE1-6F77A9931EA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ерење обима покре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ње обима покрета начин је прецизне оцене зглобне функци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личина обима покрета зглоба одређена је његовом анатомском грађом, конституцијом, испитаниковог узраста, спортском активношћу, и професионалном активношћ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 обим покрета могу утицати умор и доба дана мер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2059-E5A6-4772-8850-160BB1D4577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рава за мерење обима покрета зглоба назива се „угломер“ или „гониометар“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бивене вредности се узражавају у степен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A358-1A85-45E9-A409-E690BFEE42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 основу резултат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рењ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љивости  зглоб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терапеут 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познаје са тренутном покретљивошћу у том зглоб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статује одступања од нормалних вредности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тролише успешност третмана у процесу оспособљавања пациј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785F-ACEF-43BC-A6C1-BDD4560207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 би вршио мерење обима покрета у одређеном зглоб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опходно ј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апеут познаје функцију и особине зглоба,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његове могућности у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инисаним телесним равн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д значаја да терапеут постави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цијента у одговарајући положај и да води рачуна о положају суседних сегмената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43FD-47C2-47BF-9B35-195011B3CA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љивост неког пацијента у одређеном зглобу може одступати од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ормалних вредности у позитивном или негативном смер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кретљивост већу од нормалне називамо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хиперпокретљивошћу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лакситет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ња покретљивости у неком зглобу називамо 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контрактурама</a:t>
            </a: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. </a:t>
            </a:r>
            <a:br>
              <a:rPr sz="2400"/>
            </a:b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6E53-8793-4DDC-9B4F-B0D998D55AE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Tahoma"/>
              </a:rPr>
              <a:t>Модул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ОДУЛ 1-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ФИЗИКАЛН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И ТРЕТМАН ЛЕЗИЈА ПЕРИФЕРНОГ НЕРВНОГ СИСТЕМА  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- 2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ЕСПБ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ОДУЛ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ФИЗИКАЛН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И ТРЕТМАН ЛЕЗИЈА ЦЕНТРАЛНОГ  НЕРВНОГ СИСТЕМА  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- 1,5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ЕСПБ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ОДУЛ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ФИЗИКАЛН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А ТЕРАПИЈА  ПОВРЕДА МЕКИХ ТКИВА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(1,2,3) 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1,5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ЕСПБ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ОДУЛ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4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ФИЗИКАЛН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А ТЕРАПИЈА  ПОСЛЕ ПРЕЛОМА КОСТИЈУ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(1,2,3)  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1,8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ЕСПБ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МОДУЛ 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5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lang="en-GB" sz="1800" spc="-1" strike="noStrike">
                <a:solidFill>
                  <a:srgbClr val="40458c"/>
                </a:solidFill>
                <a:latin typeface="Tahoma"/>
              </a:rPr>
              <a:t>ФИЗИКАЛН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А ТЕРАПИЈА  ПОСЛЕ УГРАДНЈЕ ЕНДОПРОТЕЗЕ ЗГЛОБА И КОНТРАКТУРА ЗГЛОБОВА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(1,2) 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1" lang="sr-BA" sz="1800" spc="-1" strike="noStrike">
                <a:solidFill>
                  <a:srgbClr val="40458c"/>
                </a:solidFill>
                <a:latin typeface="Tahoma"/>
              </a:rPr>
              <a:t>1,2</a:t>
            </a:r>
            <a:r>
              <a:rPr b="1" lang="sr-CS" sz="1800" spc="-1" strike="noStrike">
                <a:solidFill>
                  <a:srgbClr val="40458c"/>
                </a:solidFill>
                <a:latin typeface="Tahoma"/>
              </a:rPr>
              <a:t> ЕСПБ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45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E944-9F0B-4C5C-BE85-EF77A8A3E6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ере дужине екстремите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ре дужине или лонгитудиналне мере екстремитета или појединих њихових делов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арцијална и тоталн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ужи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 ГЕ и 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FE03-135B-46E9-A420-75A070036A1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Мерење обима екстремите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83808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рења обима места на екстремитетима једноставан су и врло користан начин мерења величине отока или задебљања зглобова и стања трофике тј. развијености мишића на екстремите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180A-7CF1-44CF-A515-46258B007B4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Мерење обима екстремите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рење обима екстремитета одређује се ста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рење с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рши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лежећем положају с релаксираним мишић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2E82-7E92-46A4-9D66-EEF50E62900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стирање мишићне снаге - ММ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клиничкој се пракси за оцену стања појединих мишића или мишићних група спроводи се мерење снаге, и то мануелним тестом или динамометриј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ма мануелном мишићном тесту оцене за снагу мишића су од 0 до 5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6594-AB80-4EE3-9D27-044B76D197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стирање мишићне снаге - ММ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0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ова оцена говори да нема мишићне активн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1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током вољне активности појављује се мишићна контракција у трагу, а што се може визуелно или палпацијом одреди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2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мишић је способан да савлада пун обим покрета у зглобу када је искључена земљина тежа (помоћу суспензије). Мишић практично савлађује само отпор трења у зглоб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3EB7-AC07-440D-AEF9-FDC9B2EF6F0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стирање мишићне снаге - ММ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3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мишићном контракцијом могуће је савладати пун обим покрета без искључења земљине те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4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- мишићна контракција као и код оцене 3 савлађује пун обим покрета уз додатни напор који терапеут пружа путем мануелног контраотпо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Оцена 5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- показује да мишић може савладати пун обим покрета уз максимални отпор који мануелно пружа терапеу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C349-3641-44D8-8FC8-51E6B1593B3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естирање мишићне снаге - ММ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ишићни тест представља једну клинички оправдану методу и има својих предности које се састоје из следећег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же се радити и у установи и код кућ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 изискује посебну апаратуру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едноставан је за извођ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 замара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је релевантне објективне подат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ужа увид у ефекте правилне кинезитерапије или обрнуто, а што нам омогућава благовремено кориговање терап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е: субјективна проц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AB15-9C98-4C32-97FA-799270AD683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Right Arrow 4"/>
          <p:cNvSpPr/>
          <p:nvPr/>
        </p:nvSpPr>
        <p:spPr>
          <a:xfrm>
            <a:off x="457200" y="61722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роцена ход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новна анализа хода припада рутинском клиничком прегледу болесника са променама на локомоторном апарат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толошки процес лоциран у појединим структурним деловима узрокује асиметрични абнормални ход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9AA3-6F3B-4EA9-BFDD-C0FCB81079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роцена активности дневног живо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ажно је испитати начине обављања болесникових дневних активности (самостално или уз помоћ других лица, помагал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у спадај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сти у кревету (окретање, сједење, лежање, руковање јастуцима, постељином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сти у самозбрињавању (одржавање личне хигијене, активности храњења, активности облачења 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влачења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зличите ручне активности, активности ходања, устајања, седењ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сти путовањ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499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сти помагалима (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штап, штака, ходалица, колица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BAC1-8C20-456F-BF09-F22BC78A35C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Начин полагања испита и оцењива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15CF-4DF8-426B-AD8A-C2F513D3D9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52280" y="1600200"/>
          <a:ext cx="8839440" cy="5257800"/>
        </p:xfrm>
        <a:graphic>
          <a:graphicData uri="http://schemas.openxmlformats.org/drawingml/2006/table">
            <a:tbl>
              <a:tblPr/>
              <a:tblGrid>
                <a:gridCol w="2557440"/>
                <a:gridCol w="1862280"/>
                <a:gridCol w="2209680"/>
                <a:gridCol w="2210040"/>
              </a:tblGrid>
              <a:tr h="6937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а  знања (максимални број поена 100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8720">
                      <a:solidFill>
                        <a:srgbClr val="40458c"/>
                      </a:solidFill>
                    </a:lnB>
                    <a:solidFill>
                      <a:srgbClr val="ecd8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 u="sng">
                          <a:solidFill>
                            <a:srgbClr val="000514"/>
                          </a:solidFill>
                          <a:uFillTx/>
                          <a:latin typeface="Times New Roman"/>
                          <a:ea typeface="Times New Roman"/>
                        </a:rPr>
                        <a:t>Предиспитне обавез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872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поена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872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 u="sng">
                          <a:solidFill>
                            <a:srgbClr val="000514"/>
                          </a:solidFill>
                          <a:uFillTx/>
                          <a:latin typeface="Times New Roman"/>
                          <a:ea typeface="Times New Roman"/>
                        </a:rPr>
                        <a:t>Завршни испит 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872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ена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872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41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активност у току предавања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BA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Практични део испита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B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1139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практична настава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усмени испит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BA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32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тестови (колоквијуми)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BA" sz="28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Tahoma"/>
              </a:rPr>
              <a:t>ФИЗИКАЛНА ТЕРАПИЈ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а терапија је део физикалне медицине која се бави применом физичких агенса у сврх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тафилаксе (спречавање погоршања и рецидива болест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дицинске рехабил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3F2F-4895-4664-930F-7ED6A93D78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Right Arrow 4"/>
          <p:cNvSpPr/>
          <p:nvPr/>
        </p:nvSpPr>
        <p:spPr>
          <a:xfrm>
            <a:off x="228600" y="190512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77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 физикалном терапијом подразумева се терапијско деловање разних физичких агенаса, који се примењују углавном преко ко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зикални агенси делују у виду физиолошких дражи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ероцептор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тисак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мператур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приоцептор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е до локалних и и осталих реакција на организма, које доводе до успостављања нормалних физиолошких усло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CE16-E7EC-474B-8551-9F4B66B691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5:38:14Z</dcterms:modified>
  <cp:revision>1041</cp:revision>
  <dc:subject/>
  <dc:title>Rehabilitacija traumatoloških bolesnika</dc:title>
</cp:coreProperties>
</file>